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FE0-6852-46C2-9728-B945452D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C0A-2C2E-4FE8-B6D6-5B895D7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4A1-041E-469F-BD11-02A4926D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B0E-D0AE-40F1-8995-E6E85819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3B8E-0D4E-48DD-B24D-583365FD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2C85-5EAB-4466-BE67-CDED9A1E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A5D3-3FF8-4B2F-A07E-31A54AE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482-0862-47DC-B2A0-A39E167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E14-6716-42FA-88AE-8EA7781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0709-D874-4770-9852-D3E48418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5471-3529-4DD7-960A-734934E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CF3-3DB5-4D2C-ADE0-BF1D819C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90D4-D1B0-4286-9A7B-93122B0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097F-7948-4234-80C6-DB11E85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704-8B6B-4243-B765-4111AEF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3465-68B7-4CCF-B245-7A4D38EA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8BBF-0779-4912-84F7-C20518EF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226-10F1-487A-81BA-DECF0B3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117-C39F-4CD5-B368-2B452AA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260-3369-4FD5-9E7C-DF5DF8A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758-C171-4BF5-A1C7-87E3C65E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677-4A11-4DC2-8AAC-A5B95E6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319-B12E-49BD-9DD9-FB67965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1C3-7337-41EB-A52B-8E0E583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15B9-F599-4576-9505-77710EB174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81C-CE14-47CC-BEA3-DC64F838E3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Self Learning Standardisation Sess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2 - Scare tact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are Tact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fear in people as evidence to support a claim.  Makes you believe you are doing something to prevent a negative outc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might make you feel scared and rea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might shock / surprise you into reac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care Tactic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540240" cy="60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2 - Traditional Wisd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Wisd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the logic that the way things used to be is better than they are now, ignoring any problems of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makes you think about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is something traditional from a cul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makes you feel like the past is better than n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Wisdom exa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Content Placeholder 4" descr="traditional wisdom.JPG"/>
          <p:cNvPicPr/>
          <p:nvPr/>
        </p:nvPicPr>
        <p:blipFill>
          <a:blip r:embed="rId1"/>
          <a:srcRect l="-14134" t="0" r="-14134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alkthrough of assessment for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5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ill be assessed on the falla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e run in Week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example - Similar to the assessment for a clear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ims and objectives revisit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allacies you will be teaching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efinition and key features of   each fall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through of assessment for Wee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ims and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allacies you will be teaching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efinition and key features of each fall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through of assessment for Wee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llac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rror in reasoning (Dow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-3 will teach 4 fallacies (2 per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 Dilem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wa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re tac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1 - False Dilem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lse Dilem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s the possible choices to avoid consideration of another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fairly presented too few choices, which implies that a choice must be made among this short menu of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eems like there are only two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choice is the product being so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lse Dilemma - Exa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Content Placeholder 3" descr="always win.jpg"/>
          <p:cNvPicPr/>
          <p:nvPr/>
        </p:nvPicPr>
        <p:blipFill>
          <a:blip r:embed="rId1"/>
          <a:stretch/>
        </p:blipFill>
        <p:spPr>
          <a:xfrm>
            <a:off x="1952640" y="1557360"/>
            <a:ext cx="5564160" cy="5095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1979640" y="5899320"/>
            <a:ext cx="554508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e1"/>
                </a:solidFill>
                <a:latin typeface="Antique Olive Compact"/>
                <a:ea typeface="ＭＳ Ｐゴシック"/>
              </a:rPr>
              <a:t>Don’t be a 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e1"/>
                </a:solidFill>
                <a:latin typeface="Antique Olive Compact"/>
                <a:ea typeface="ＭＳ Ｐゴシック"/>
              </a:rPr>
              <a:t>BE A WINNER WITH GATOR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1 - Bandwag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ndwag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the impression that everybody is doing it and so should you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eems like everyone is doing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feel like you should do it to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dvert uses words like "most", "all", "everybody.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andwagon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51120" y="404640"/>
            <a:ext cx="4592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54:02Z</dcterms:created>
  <dc:creator>SA</dc:creator>
  <dc:description/>
  <dc:language>en-US</dc:language>
  <cp:lastModifiedBy>SA</cp:lastModifiedBy>
  <dcterms:modified xsi:type="dcterms:W3CDTF">2011-02-16T11:40:54Z</dcterms:modified>
  <cp:revision>7</cp:revision>
  <dc:subject/>
  <dc:title>Self Learning Standardisation Sesson</dc:title>
</cp:coreProperties>
</file>